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753-13B3-4D02-8419-496B35DF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6CC-3D9D-451B-B8A2-751F82B4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A03-4E1D-4B4F-B2C3-1F1A4FE9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41B-9CBF-4B3B-A1F1-5EDD08A7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BC2-430D-4BC8-A965-233737AB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2C8-D230-4631-A033-7D499EE0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F7E-4598-4ECE-BCF8-64561E76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9EE-840E-40D2-A775-DE0D9145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4E0-EAD7-4A3D-8955-D9DC0804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94D-53CC-4F51-A97E-CF70F28D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5DD-8716-4657-9ABB-9D0A3861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EA6-2A55-4029-B8E3-AD566497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8703-78A7-4EB4-B4DC-71A08BE2C8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ika-media.ru/resources/i16710-icon-detail.jp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Выявление одаренных детей, система диагностических процедур и методов, направленных  на выявление одаренности учащихся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MCj03433430000[1]"/>
          <p:cNvPicPr/>
          <p:nvPr/>
        </p:nvPicPr>
        <p:blipFill>
          <a:blip r:embed="rId1"/>
          <a:stretch/>
        </p:blipFill>
        <p:spPr>
          <a:xfrm>
            <a:off x="179280" y="3357720"/>
            <a:ext cx="3529080" cy="328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MCj02954760000[1]"/>
          <p:cNvPicPr/>
          <p:nvPr/>
        </p:nvPicPr>
        <p:blipFill>
          <a:blip r:embed="rId2"/>
          <a:stretch/>
        </p:blipFill>
        <p:spPr>
          <a:xfrm>
            <a:off x="7332840" y="3929040"/>
            <a:ext cx="1571400" cy="265896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571920" y="3071880"/>
            <a:ext cx="371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Творчество - это значит копать глубже, смотреть лучше, исправлять ошибки, беседовать с кошкой, нырять в глубину, зажигать солнце, строить замок на песке, приветствовать будуще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лог Поль Торрен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500040" y="69264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просник для выявления одаренных школьников по А.А. Лос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осник включает характеристики 10 сфер, где учащийся может проявить способ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ллектуаль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адемических достиж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к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тистическ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ль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ель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ествен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8" descr="i?id=98114857-22-72"/>
          <p:cNvPicPr/>
          <p:nvPr/>
        </p:nvPicPr>
        <p:blipFill>
          <a:blip r:embed="rId1"/>
          <a:stretch/>
        </p:blipFill>
        <p:spPr>
          <a:xfrm>
            <a:off x="6429240" y="4643280"/>
            <a:ext cx="2365560" cy="1971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i?id=248661598-19-72"/>
          <p:cNvPicPr/>
          <p:nvPr/>
        </p:nvPicPr>
        <p:blipFill>
          <a:blip r:embed="rId2"/>
          <a:stretch/>
        </p:blipFill>
        <p:spPr>
          <a:xfrm>
            <a:off x="5143680" y="2857680"/>
            <a:ext cx="16779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571680" y="500040"/>
            <a:ext cx="81435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200" spc="-1" strike="noStrike">
                <a:solidFill>
                  <a:srgbClr val="990033"/>
                </a:solidFill>
                <a:latin typeface="Arial"/>
              </a:rPr>
              <a:t>Опросник для выявления одаренных учащихся по Е.Н. Задори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феры одаренности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ллектуальных способностей, творческих способностей (креативности), социальной компетентности, психомоторных способностей, художественной одарен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выявлении одаренных учащихся учителям рекомендуе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обращать особое внимание на тех учеников, чьи способности в школьной деятельности никак не проявилис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не рассматривать сложившееся мнение об ученике как абсолютное, непоколебимо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обращать внимание на то, что у учащегося могут проявляться способности в различных сферах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642960" y="642960"/>
            <a:ext cx="785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33"/>
                </a:solidFill>
                <a:latin typeface="Arial"/>
              </a:rPr>
              <a:t>-Анкета «Ребенок: способный или одаренный?»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род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lang="ru-RU" sz="2200" spc="-1" strike="noStrike">
                <a:solidFill>
                  <a:srgbClr val="990033"/>
                </a:solidFill>
                <a:latin typeface="Arial"/>
              </a:rPr>
              <a:t>Оценка одаренности самим учащимся и его сверстни-ками</a:t>
            </a: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Картинка 241 из 149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2286000"/>
            <a:ext cx="41464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"/>
          <p:cNvSpPr/>
          <p:nvPr/>
        </p:nvSpPr>
        <p:spPr>
          <a:xfrm>
            <a:off x="1187280" y="1557360"/>
            <a:ext cx="69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Bookman Old Style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хема 1" descr=""/>
          <p:cNvPicPr/>
          <p:nvPr/>
        </p:nvPicPr>
        <p:blipFill>
          <a:blip r:embed="rId1"/>
          <a:srcRect l="0" t="-10721" r="0" b="-11248"/>
          <a:stretch/>
        </p:blipFill>
        <p:spPr>
          <a:xfrm>
            <a:off x="357120" y="214200"/>
            <a:ext cx="84297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9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6"/>
          <p:cNvGraphicFramePr/>
          <p:nvPr/>
        </p:nvGraphicFramePr>
        <p:xfrm>
          <a:off x="714240" y="357120"/>
          <a:ext cx="7643880" cy="574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357120"/>
                    <a:ext cx="7643880" cy="57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1"/>
          <p:cNvSpPr/>
          <p:nvPr/>
        </p:nvSpPr>
        <p:spPr>
          <a:xfrm>
            <a:off x="571680" y="500040"/>
            <a:ext cx="7929360" cy="5857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928800" y="901800"/>
            <a:ext cx="72864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авило 1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Если родители поделились информацией со своим классным руководителем, она не должна стать доступной вс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авило 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иагностика проблемы предполагает коррекционные действия классного руководителя по изученной пробл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авило 3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иагностическое исследование не должно ставить своей целью навешивание ярлы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авило 4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агностическое исследование должно проводиться корректно и располагать к дальнейшему общению с классным руководител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авило 5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детального изучения проблемы одного диагностического исследования мало, необходимо использовать различные виды диагностик, чтобы получить достоверный матери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24000" y="214200"/>
            <a:ext cx="8496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-Методика оценки общей одар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знательность (познавательная потребнос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рхчувствительность к проблем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к прогноз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к оце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ета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рассуждать и мыслить логиче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ойчивость (целеустремленн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тельность к результатам собственной деятельности (перфекциониз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992920" y="3700440"/>
            <a:ext cx="3108240" cy="3121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85840" y="428616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ом станет график, который дает наглядное представление о том, в каком направлении нам следует вести дальнейшую воспитательну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357120" y="219240"/>
            <a:ext cx="850104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c00000"/>
              </a:buClr>
              <a:buFont typeface="Arial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методика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Характеристика учен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методика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Карта одарен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одар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ллектуаль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к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адемическ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ественно-изобразитель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ль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тистическ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дерск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ртив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i?id=282695477-62-72"/>
          <p:cNvPicPr/>
          <p:nvPr/>
        </p:nvPicPr>
        <p:blipFill>
          <a:blip r:embed="rId1"/>
          <a:stretch/>
        </p:blipFill>
        <p:spPr>
          <a:xfrm>
            <a:off x="5786280" y="2830680"/>
            <a:ext cx="2789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57120" y="214200"/>
            <a:ext cx="8786880" cy="64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Методика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 «Интеллектуальный портр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- оцениваемое свойство личности развито хорошо, четко выражено, проявля--ется часто в различных видах деятельности и поведе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- свойство заметно выражено, но проявляется непостоянно, при этом противоположное ему свойство проявляется очень редко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- оцениваемое и противоположное свойства личности в поведении и деятельности уравновешивают друг друг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- более ярко выражено и чаще проявляется свойство личности, противоположное оцениваемому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- четко выражено и часто проявляется свойство личности, противоположное оцениваемому, оно фиксируется в поведении и во всех видах деятельност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- сведений для оценки данного качества нет (не име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14200" y="714240"/>
          <a:ext cx="8643960" cy="2571840"/>
        </p:xfrm>
        <a:graphic>
          <a:graphicData uri="http://schemas.openxmlformats.org/drawingml/2006/table">
            <a:tbl>
              <a:tblPr/>
              <a:tblGrid>
                <a:gridCol w="4321440"/>
                <a:gridCol w="4322520"/>
              </a:tblGrid>
              <a:tr h="25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вательная 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ригинальность мыш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Гибкость мыш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родукти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Способность к анализу и синтез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Классификация и категориз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Высокая концентрация вним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Памя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ера личностн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Увлеченность содержанием задач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ерфекциониз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оциальная автоном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Лидер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оревнователь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Широта интересо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Юмор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6"/>
          <p:cNvSpPr/>
          <p:nvPr/>
        </p:nvSpPr>
        <p:spPr>
          <a:xfrm>
            <a:off x="214200" y="109440"/>
            <a:ext cx="8643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шк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цениваемое свойство личности развито хорошо, четко выражено, проявляется часто в различных видах деятельности и поведения;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войство заметно выражено, но проявляется непостоянно, при этом противоположное ему свойство проявляется очень редк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цениваемое и противоположное свойства личности в поведении и деятельности уравновешивают друг дру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е ярко выражено и чаще проявляется свойство личности, противоположное оцениваем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четко выражено и часто проявляется свойство личности, противоположное оцениваемому, оно фиксируется в поведении и во всех видах деятельности;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ведений для оценки данного качества нет (не име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уктив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ли беглость, мышления обы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атривается как способность к генериров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го числа и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ется и может оцениваться по количеств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ов решения разнообразных проблем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ов деятельности (проекты, рисунки, соч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ния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м вариант бальной оценки по предложе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й  шкал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методика2"/>
          <p:cNvPicPr/>
          <p:nvPr/>
        </p:nvPicPr>
        <p:blipFill>
          <a:blip r:embed="rId1"/>
          <a:stretch/>
        </p:blipFill>
        <p:spPr>
          <a:xfrm>
            <a:off x="5924520" y="3780000"/>
            <a:ext cx="32259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7"/>
          <p:cNvSpPr/>
          <p:nvPr/>
        </p:nvSpPr>
        <p:spPr>
          <a:xfrm>
            <a:off x="571680" y="428760"/>
            <a:ext cx="8001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- Анкета одар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фер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изобразительно-художественной одаре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узыкальной одар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литературной одар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артистической одар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технической одар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лидерской одар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портивной одар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интеллектуальной одар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1" descr="PE01038_"/>
          <p:cNvPicPr/>
          <p:nvPr/>
        </p:nvPicPr>
        <p:blipFill>
          <a:blip r:embed="rId1"/>
          <a:stretch/>
        </p:blipFill>
        <p:spPr>
          <a:xfrm flipH="1">
            <a:off x="6214680" y="2786040"/>
            <a:ext cx="26780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2:28:14Z</dcterms:created>
  <dc:creator>Администратор</dc:creator>
  <dc:description/>
  <dc:language>en-US</dc:language>
  <cp:lastModifiedBy>user</cp:lastModifiedBy>
  <dcterms:modified xsi:type="dcterms:W3CDTF">2013-01-19T21:24:43Z</dcterms:modified>
  <cp:revision>13</cp:revision>
  <dc:subject/>
  <dc:title>Слайд 1</dc:title>
</cp:coreProperties>
</file>